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6AF-E148-477B-ADCD-6DC0B62E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BB0-E105-4115-9BA4-8266B6B4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858-22BD-4F2C-83D1-26C9D94D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087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5456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625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5087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5456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9D93-8A6E-444E-BD5D-29928D8F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CC4E-7494-4B94-8B6A-BE0FCAF2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333F-54E8-4E8A-84F2-64728AE2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0A9F-0B1C-4CC7-8B13-97023E8A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8FCD-25CF-47CD-AB54-92377892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8BC0-98A1-4702-A170-BBC29B4B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62160" y="1066680"/>
            <a:ext cx="464796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B723-0864-4C8F-9C15-E052D72A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17EA-4751-4DB3-BC16-98E89350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96B4-40B4-4746-ABBA-08646DC8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2D14-45B2-4FCA-9A32-9051134D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6526-E220-4176-9534-E51DE86C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8503-432E-4B0B-9C07-5BF23BF3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62F9-89CD-42C4-835D-99E74B35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087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5456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625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5087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5456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1A55-5EC6-4955-833F-A87EE2AB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380-BD63-4CA3-AD7B-77C00647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584-459B-4896-9C9B-19DB8731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F197-00F0-40D0-BD57-8F8A8AC3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62160" y="1066680"/>
            <a:ext cx="464796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5679-BA8F-4783-8C31-4F34F2A0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AFC-C5E9-4196-B2A5-66B2F7F5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E6D7-03F9-49B0-88EE-1FE070BF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C9D-FA1F-451C-8F1A-205EAB35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93E9-54C8-47A3-8B7C-D8F9291CC2D8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24AC-FE3C-49E4-9F89-6916F7E94C88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786560" cy="32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cc"/>
                </a:solidFill>
                <a:latin typeface="Arial"/>
                <a:ea typeface=""/>
              </a:rPr>
              <a:t>赠从弟</a:t>
            </a:r>
            <a:br>
              <a:rPr sz="7200"/>
            </a:b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"/>
              </a:rPr>
              <a:t>（其二）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刘桢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flipH="1">
            <a:off x="-360" y="5013360"/>
            <a:ext cx="1390680" cy="1011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flipH="1">
            <a:off x="1402920" y="4149720"/>
            <a:ext cx="139068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1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  <a:ea typeface=""/>
              </a:rPr>
              <a:t>赠从弟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亭亭山上松，瑟瑟谷中风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风声一何盛，松枝一何劲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冰霜正惨凄，终岁常端正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岂不罹凝寒，松柏有本性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刘桢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86~21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年）（人教版八下语文书不确定出生年份），字公干，东汉末宁阳（今宁阳县泗店镇古城村）人（东平），东汉著名文学家，建安七子之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以五言诗著称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572"/>
                </a:solidFill>
                <a:latin typeface="Arial"/>
              </a:rPr>
              <a:t>注释</a:t>
            </a:r>
            <a:endParaRPr b="0" lang="en-US" sz="7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亭亭：高耸的样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瑟瑟：形容寒风的声音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一何：多么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惨凄：凛冽、严酷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罹（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lí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凝寒：遭受严寒。 罹，遭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  <a:ea typeface=""/>
              </a:rPr>
              <a:t>赠从弟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2565360"/>
            <a:ext cx="57070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亭亭山上松，瑟瑟谷中风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风声一何盛，松枝一何劲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冰霜正惨凄，终岁常端正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岂不罹凝寒，松柏有本性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84360" y="2492280"/>
            <a:ext cx="2760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Arial"/>
              </a:rPr>
              <a:t>高山上挺拔耸立的松树，顶着山谷间瑟瑟呼啸的狂风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Arial"/>
              </a:rPr>
              <a:t>风声是如此的猛烈，而松枝是如此的刚劲！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Arial"/>
              </a:rPr>
              <a:t>任它满天冰霜惨惨凄凄，松树的腰杆终年直立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Arial"/>
              </a:rPr>
              <a:t>难道是松树没有遭遇凝重的寒意？不，是松柏天生有着耐寒的本性！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flipH="1">
            <a:off x="178920" y="5373720"/>
            <a:ext cx="139068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全诗的风格和寓意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这首诗通篇以松柏而喻，赞颂松柏能够挺立风中而不倒，经严寒而不凋。诗人并没有讲他希望堂弟应当如何如何，但其劝勉之意却又不言而喻，将此诗赠与他的堂弟，目的是为了让堂弟像松一样，不畏严寒，屹立不倒。 全诗文字平实，风格古朴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Arial"/>
              </a:rPr>
              <a:t>作业</a:t>
            </a:r>
            <a:endParaRPr b="0" lang="en-US" sz="7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背诵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默写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4221000"/>
            <a:ext cx="20066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62520" y="1066320"/>
            <a:ext cx="4497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33cc"/>
                </a:solidFill>
                <a:latin typeface="Arial"/>
              </a:rPr>
              <a:t>谢谢大家</a:t>
            </a:r>
            <a:endParaRPr b="0" lang="en-US" sz="142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0T04:45:17Z</dcterms:created>
  <dc:creator>雨林木风</dc:creator>
  <dc:description/>
  <dc:language>en-US</dc:language>
  <cp:lastModifiedBy>雨林木风</cp:lastModifiedBy>
  <dcterms:modified xsi:type="dcterms:W3CDTF">2015-03-11T01:12:47Z</dcterms:modified>
  <cp:revision>8</cp:revision>
  <dc:subject/>
  <dc:title>赠从弟</dc:title>
</cp:coreProperties>
</file>