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chimes.wav" ContentType="audio/x-wav"/>
  <Override PartName="/ppt/media/image17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E44-70FD-42B3-83B7-DD8A3211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EDE-27B4-460C-AAC0-FEE8783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C6E-0CD2-432D-BFA7-ECACA4F0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607-8409-40AA-BF53-67FEBACF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361-6AD1-48D2-B382-BB83D75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679-FD1A-48EE-9E43-D5D460D9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EB5-7F6D-4F37-8DC6-F265B5E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1FA-B67C-47F2-A6B4-241C840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6C2-97F1-4B31-9A75-04FFCC8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B78-764D-4030-969C-68E39B7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D5B-8ADE-4E31-8DB1-B58CC6D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E4B-9D8C-4C33-86C7-3C47A1E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" name="Freeform 1027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Freeform 1036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Freeform 1037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24" name="Freeform 1050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Freeform 1051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Freeform 1052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0C0-3A61-4077-941C-1AFEBB425DFE}" type="slidenum">
              <a:rPr b="0" lang="zh-CN" sz="1400" spc="-1" strike="noStrike">
                <a:solidFill>
                  <a:srgbClr val="545472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0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2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package" Target="../embeddings/oleObject1.ppt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295280" y="37339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0292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Verdana"/>
                <a:ea typeface="隶书"/>
              </a:rPr>
              <a:t>  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33720" y="990720"/>
            <a:ext cx="4419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散步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38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878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899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24000" y="404640"/>
            <a:ext cx="856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</a:t>
            </a:r>
            <a:r>
              <a:rPr b="0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课堂活动：鲜花献给可敬的人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70828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楷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楷体"/>
              </a:rPr>
              <a:t>你有一束美丽的鲜花，请你把它献给文中的某个人物，你将献给谁？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56386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楷体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1628640"/>
            <a:ext cx="604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280" y="457200"/>
            <a:ext cx="8991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献给“我”，因为他孝敬老人，有责任感，在处理家人的分歧时讲原则，不宠爱孩子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献给“妻子”，因为她贤惠明理，孝敬老人，尊重丈夫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献给“母亲”，因为她慈祥善良善解人意，疼爱孙子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献给“孩子”，因为他聪明活泼，很懂事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191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-11017080"/>
            <a:ext cx="287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545472"/>
                </a:solidFill>
                <a:latin typeface="Tahoma"/>
              </a:rPr>
              <a:t>理解并分析文章的最后一句话！</a:t>
            </a:r>
            <a:endParaRPr b="1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字面上看，形容他们走的小心，唯恐有闪失，特别是母亲经不起摔跌，非稳当不可。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这个形象也具有象征意义，中年的责任，既要赡养老一代，又要扶养下一代，一个家庭是这样，一个民族，一个国家又何偿不是这样呢？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33520" y="533520"/>
            <a:ext cx="655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宋体"/>
              </a:rPr>
              <a:t>        </a:t>
            </a: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宋体"/>
              </a:rPr>
              <a:t>四</a:t>
            </a:r>
            <a:r>
              <a:rPr b="0" lang="zh-CN" sz="4800" spc="-1" strike="noStrike">
                <a:solidFill>
                  <a:srgbClr val="3366ff"/>
                </a:solidFill>
                <a:latin typeface="Times New Roman"/>
                <a:ea typeface="宋体"/>
              </a:rPr>
              <a:t>。拓展延伸  升华亲情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180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565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宋体"/>
              </a:rPr>
              <a:t>观看公益广告《爱心传递》。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278136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  <a:ea typeface="宋体"/>
              </a:rPr>
              <a:t>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了这篇文章，此时的你一定感慨万千。请拿起手中的笔，抒写你的万千感慨！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0440" y="20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Verdana"/>
                <a:ea typeface="楷体_GB2312"/>
              </a:rPr>
              <a:t>爸爸（妈妈），我想对你说……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936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45472"/>
                </a:solidFill>
                <a:latin typeface="Verdana"/>
                <a:ea typeface="隶书"/>
              </a:rPr>
              <a:t>课堂练笔</a:t>
            </a:r>
            <a:endParaRPr b="0" lang="en-US" sz="6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4171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762120"/>
            <a:ext cx="7010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隶书"/>
              </a:rPr>
              <a:t>古今事万千，人间情长远，在这些情感中，亲情是永不凋谢的康乃馨。</a:t>
            </a:r>
            <a:endParaRPr b="0" lang="en-US" sz="5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12193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Verdana"/>
                <a:ea typeface="宋体"/>
              </a:rPr>
              <a:t>配乐朗读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95280" y="2057400"/>
            <a:ext cx="57913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隶书"/>
              </a:rPr>
              <a:t>配乐朗读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1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8582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457200"/>
            <a:ext cx="67053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一、初读知意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447920"/>
            <a:ext cx="655308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Verdana"/>
                <a:ea typeface="宋体"/>
              </a:rPr>
              <a:t>  </a:t>
            </a:r>
            <a:r>
              <a:rPr b="0" lang="zh-CN" sz="4000" spc="-1" strike="noStrike">
                <a:solidFill>
                  <a:srgbClr val="0066ff"/>
                </a:solidFill>
                <a:latin typeface="Verdana"/>
                <a:ea typeface="宋体"/>
              </a:rPr>
              <a:t>帮帮你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Verdana"/>
                <a:ea typeface="宋体"/>
              </a:rPr>
              <a:t>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áo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545472"/>
                </a:solidFill>
                <a:latin typeface="Verdana"/>
                <a:ea typeface="宋体"/>
              </a:rPr>
              <a:t>、嫩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(nèn)</a:t>
            </a:r>
            <a:r>
              <a:rPr b="1" lang="zh-CN" sz="2800" spc="-1" strike="noStrike">
                <a:solidFill>
                  <a:srgbClr val="545472"/>
                </a:solidFill>
                <a:latin typeface="Verdana"/>
                <a:ea typeface="宋体"/>
              </a:rPr>
              <a:t>芽、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Verdana"/>
                <a:ea typeface="宋体"/>
              </a:rPr>
              <a:t>分歧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(qí)</a:t>
            </a:r>
            <a:r>
              <a:rPr b="1" lang="zh-CN" sz="2800" spc="-1" strike="noStrike">
                <a:solidFill>
                  <a:srgbClr val="545472"/>
                </a:solidFill>
                <a:latin typeface="Verdana"/>
                <a:ea typeface="宋体"/>
              </a:rPr>
              <a:t>、水波粼粼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(lín)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1268280"/>
            <a:ext cx="8458200" cy="68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宋体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）、散步的时间、地点、原因是什么？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）在散步中发生了什么事？在解决分歧时，我的感觉是什么？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）分歧最终是怎样解决的？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）从散步这一小事中，我们可以感受到这一家人怎样的关系？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500720" y="2133720"/>
            <a:ext cx="360360" cy="3808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80880"/>
              <a:gd name="textAreaBottom" fmla="*/ 357840 h 380880"/>
            </a:gdLst>
            <a:ahLst/>
            <a:rect l="textAreaLeft" t="textAreaTop" r="textAreaRight" b="textAreaBottom"/>
            <a:pathLst>
              <a:path w="21600" h="22829">
                <a:moveTo>
                  <a:pt x="0" y="0"/>
                </a:moveTo>
                <a:lnTo>
                  <a:pt x="21600" y="0"/>
                </a:lnTo>
                <a:lnTo>
                  <a:pt x="21600" y="22829"/>
                </a:lnTo>
                <a:lnTo>
                  <a:pt x="0" y="22829"/>
                </a:lnTo>
                <a:close/>
              </a:path>
              <a:path fill="lightenLess" w="21600" h="228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9">
                <a:moveTo>
                  <a:pt x="21600" y="0"/>
                </a:moveTo>
                <a:lnTo>
                  <a:pt x="21600" y="22829"/>
                </a:lnTo>
                <a:lnTo>
                  <a:pt x="20200" y="21429"/>
                </a:lnTo>
                <a:lnTo>
                  <a:pt x="20200" y="1400"/>
                </a:lnTo>
                <a:close/>
              </a:path>
              <a:path fill="darkenLess" w="21600" h="22829">
                <a:moveTo>
                  <a:pt x="21600" y="22829"/>
                </a:moveTo>
                <a:lnTo>
                  <a:pt x="0" y="22829"/>
                </a:lnTo>
                <a:lnTo>
                  <a:pt x="1400" y="21429"/>
                </a:lnTo>
                <a:lnTo>
                  <a:pt x="20200" y="21429"/>
                </a:lnTo>
                <a:close/>
              </a:path>
              <a:path fill="lighten" w="21600" h="22829">
                <a:moveTo>
                  <a:pt x="0" y="228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9"/>
                </a:lnTo>
                <a:close/>
              </a:path>
              <a:path fill="darken" w="21600" h="22829">
                <a:moveTo>
                  <a:pt x="3794" y="4408"/>
                </a:moveTo>
                <a:lnTo>
                  <a:pt x="17806" y="11414"/>
                </a:lnTo>
                <a:lnTo>
                  <a:pt x="3794" y="18421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7093080" y="422100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5796000" y="5589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9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  <a:ea typeface="宋体"/>
              </a:rPr>
              <a:t>二。感悟亲情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5940360" y="3357720"/>
            <a:ext cx="360360" cy="3808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80880"/>
              <a:gd name="textAreaBottom" fmla="*/ 357840 h 380880"/>
            </a:gdLst>
            <a:ahLst/>
            <a:rect l="textAreaLeft" t="textAreaTop" r="textAreaRight" b="textAreaBottom"/>
            <a:pathLst>
              <a:path w="21600" h="22829">
                <a:moveTo>
                  <a:pt x="0" y="0"/>
                </a:moveTo>
                <a:lnTo>
                  <a:pt x="21600" y="0"/>
                </a:lnTo>
                <a:lnTo>
                  <a:pt x="21600" y="22829"/>
                </a:lnTo>
                <a:lnTo>
                  <a:pt x="0" y="22829"/>
                </a:lnTo>
                <a:close/>
              </a:path>
              <a:path fill="lightenLess" w="21600" h="228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9">
                <a:moveTo>
                  <a:pt x="21600" y="0"/>
                </a:moveTo>
                <a:lnTo>
                  <a:pt x="21600" y="22829"/>
                </a:lnTo>
                <a:lnTo>
                  <a:pt x="20200" y="21429"/>
                </a:lnTo>
                <a:lnTo>
                  <a:pt x="20200" y="1400"/>
                </a:lnTo>
                <a:close/>
              </a:path>
              <a:path fill="darkenLess" w="21600" h="22829">
                <a:moveTo>
                  <a:pt x="21600" y="22829"/>
                </a:moveTo>
                <a:lnTo>
                  <a:pt x="0" y="22829"/>
                </a:lnTo>
                <a:lnTo>
                  <a:pt x="1400" y="21429"/>
                </a:lnTo>
                <a:lnTo>
                  <a:pt x="20200" y="21429"/>
                </a:lnTo>
                <a:close/>
              </a:path>
              <a:path fill="lighten" w="21600" h="22829">
                <a:moveTo>
                  <a:pt x="0" y="228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9"/>
                </a:lnTo>
                <a:close/>
              </a:path>
              <a:path fill="darken" w="21600" h="22829">
                <a:moveTo>
                  <a:pt x="3794" y="4408"/>
                </a:moveTo>
                <a:lnTo>
                  <a:pt x="17806" y="11414"/>
                </a:lnTo>
                <a:lnTo>
                  <a:pt x="3794" y="18421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43000" y="83808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时间：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初春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523880"/>
            <a:ext cx="746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人物：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我、我的母亲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我的儿子、  我的妻子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895480"/>
            <a:ext cx="556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事：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一起到野外散步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886200"/>
            <a:ext cx="6933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经过：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因为走大路、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Verdana"/>
                <a:ea typeface="宋体"/>
              </a:rPr>
              <a:t>走小路发生分歧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257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主题：</a:t>
            </a:r>
            <a:r>
              <a:rPr b="1" lang="zh-CN" sz="3200" spc="-1" strike="noStrike">
                <a:solidFill>
                  <a:srgbClr val="0066ff"/>
                </a:solidFill>
                <a:latin typeface="_x000b__x000c_"/>
                <a:ea typeface="宋体"/>
              </a:rPr>
              <a:t>尊老爱幼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81280" y="18288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隶书"/>
              </a:rPr>
              <a:t>分歧</a:t>
            </a:r>
            <a:endParaRPr b="0" lang="en-US" sz="4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2590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Verdana"/>
                <a:ea typeface="隶书"/>
              </a:rPr>
              <a:t>母亲走大路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Verdana"/>
                <a:ea typeface="隶书"/>
              </a:rPr>
              <a:t>大路平坦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828800"/>
            <a:ext cx="3048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Verdana"/>
                <a:ea typeface="隶书"/>
              </a:rPr>
              <a:t>儿子走小路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Verdana"/>
                <a:ea typeface="隶书"/>
              </a:rPr>
              <a:t>小路有趣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209680"/>
            <a:ext cx="914400" cy="381240"/>
          </a:xfrm>
          <a:prstGeom prst="leftArrow">
            <a:avLst>
              <a:gd name="adj1" fmla="val 50000"/>
              <a:gd name="adj2" fmla="val 59962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1337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1280" y="4797360"/>
            <a:ext cx="10335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Verdana"/>
                <a:ea typeface="隶书"/>
              </a:rPr>
              <a:t>我</a:t>
            </a:r>
            <a:r>
              <a:rPr b="1" lang="zh-CN" sz="4400" spc="-1" strike="noStrike">
                <a:solidFill>
                  <a:srgbClr val="545472"/>
                </a:solidFill>
                <a:latin typeface="Verdana"/>
                <a:ea typeface="隶书"/>
              </a:rPr>
              <a:t>?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62920" y="5492880"/>
            <a:ext cx="1981080" cy="13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038480" y="2666880"/>
            <a:ext cx="6256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28800" y="25146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Verdana"/>
                <a:ea typeface="隶书"/>
              </a:rPr>
              <a:t>我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2133720"/>
            <a:ext cx="6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委屈儿子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676520"/>
            <a:ext cx="76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母亲疼爱孙子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1337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走大路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0574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Verdana"/>
                <a:ea typeface="隶书"/>
              </a:rPr>
              <a:t>走小路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8195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9718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28954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371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华文行楷"/>
              </a:rPr>
              <a:t>孝敬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华文行楷"/>
              </a:rPr>
              <a:t>慈爱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1055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家人：尊老爱幼 温馨和睦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三。精读课文，探究美点</a:t>
            </a:r>
            <a:endParaRPr b="1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77240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用你最喜欢的方式朗读，从文章中找出你认为写得最精彩的地方。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采用“我最喜欢的是————，因为————”的句式，谈谈你喜欢的理由。</a:t>
            </a:r>
            <a:endParaRPr b="1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52:00Z</dcterms:created>
  <dc:creator>rks</dc:creator>
  <dc:description/>
  <dc:language>en-US</dc:language>
  <cp:lastModifiedBy>微软用户</cp:lastModifiedBy>
  <dcterms:modified xsi:type="dcterms:W3CDTF">2010-12-16T00:54:23Z</dcterms:modified>
  <cp:revision>128</cp:revision>
  <dc:subject/>
  <dc:title>PowerPoint 演示文稿</dc:title>
</cp:coreProperties>
</file>