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47B-BA8C-4675-A32F-BB473215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EE5-E080-4E9B-98EF-FB35B7F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9C8-C9C9-4FA5-A0A4-79B5B653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60F-D87B-4AFA-82E1-D7C00BAF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5F-FDDD-4DE2-A3C4-E6148145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B4B-D36B-45D7-931A-42E4958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76A-F1E0-4DBD-A0D8-9C6785B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EC7-97C6-4618-9FCA-8AEC753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6BA-132D-4F1D-B9D7-A6E24C41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60B-F579-4595-ACB1-B6C2C08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52B-52AC-46E0-A5E5-5A589258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BEF-6042-4807-B661-1E212A6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FA2B-CB4D-4019-891A-569FD0E37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自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许您要问：在漫无边际的大自然中，你们怎么知道什么植物在哪里开花流蜜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诉您吧，我们有很多“侦探”，派它们去侦察，回来再把结果告诉同伴，我们的“语言”就是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家族就是这样。我们的生命是短暂的，但不必担心，我们还有兄弟，还有接班人。它们会像我们一样继续劳动。我们的家族就这样不断繁衍下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蚊子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好！想知道俺是谁吗？俺天生一副明星像（俺爹妈说的，不信，你们去问他们），你看，俺一出生，就名列前茅，成了众所周知的“十大害之一”每晚都会被那热情的人类追得我在他们的屋子里转来转去，真是“人怕出名，蚊怕壮”哪！可谁叫我这么有“人缘”呢？噢，对了，本蚊子的芳名叫“桑娜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全身上下都是法宝，当然，这只是对于我们蚊子来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ＬＯＯＫ！我这透明 、美丽的小翅膀，可别看它外表一副单薄 、软弱的样子，它的功能可大了，每秒能够振动二百五十到六百次，你们先别惊讶，因为这个数目对于我们来说，就是“小菜一碟”，而且，我们这对翅膀振动的频率也不是实数，如果要我们显示真正的本领，那不把我们累得吐血才怪呢！因此，这个数目只在我们随意振动之间．实际数目究竟是多少，我看还是由聪明的你慢慢的掰手指头，慢慢去计算吧！所以呀，这对翅膀就是我们的得意法宝之一，不错吧，我也是这么觉得的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聪明的你也知道我靠什么来维生的吧，没错，就是那些新鲜的 、可口的——　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。无论动物血 、人血，还是什么血，我们都照吸不误。因此，我们蚊子家族又“荣获”一个“美称——”吸血鬼“。知道我们是用什么来吸你们的血的吗？对了，就是我嘴中那根长长的 、尖尖的 、细细的东西，我不知道它在我们这里称为什么，但我知道它在人类眼里叫什么什么”微行针管“？！不错，形容得还蛮贴切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避免人类无止休的追捧，我们都是在晚上行动的。你可不要以为我们会有一双又大又圆又亮的眼睛哦，透个秘密给你吧，在黑暗中，我们什么都看不见，对，就是传说中的“睁眼瞎”。那么，知道我是怎么知道你在那里，从而吸你的血的吗？我呀，是靠触须和三对角上的传感器。在你呼吸时，我就贴近你的身体飞，嗅到传出的二氧化碳，从而用我的那“微行针管”刺破皮肤，直达密密的毛血管网，在我享受血时，我会将唾液注入到你的体内，与血液混合， 唾液有抗凝你那新鲜的 、美味的血的作用，因此血液而流动不息然后我便会疯狂地享用你的血，直到我打起饱嗝，才会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实说起来挺惭愧的，因为我吸完你的血后，你被我叮咬过的地方会产生痒得不得了的肿块，而且，而且我还把各种不知名的细菌留在你的体内，具体是什么细菌，我还得去检查以下身体才知，因为我拜访过许多“名地”，有厕所啦，垃圾堆啦，臭水渠啦等等，反正能和我们喜欢的“脏”字拉上半点亲戚关系的，我都基本去过，所以啊我的体内蕴含有百分之一百的细菌，其中可以致命的有百分之九十，仔细想想，我都后怕，真对不起你们哪，你们为我们提供了丰富的血资源，可我们还恩将仇报，但没办法，谁叫我们的命运如此，注定要一吸血维生呢？注定要害人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么样？听了我的自述，是不是对我“佩服”的五体投地了？！过奖了，雕虫小技，不足挂齿也 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苍蝇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名字叫苍蝇，说起来很惭愧，我一直希望大家能够叫我苍鹰，虽是一字之别，却是差之千里，人家翅膀一振，对我而言就是一阵狂风，刮得我晕头转向，七荤八素。为此，我偷偷加强肌肉的锻炼，不过练了好些日子，汗出了几大碗，依然是瘦胳膊细腿儿，只得作罢，却把自己的名字改了，叫：阿诺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瓦辛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族的成长史可以说是一个奇迹，别看那蝴蝶最终能变成飞蛾，与我族相比差远了，我从白色的软体爬虫变成一只壮年成蝇，从地上爬的变成天上飞的，你说伟不伟大。看着我这一对轻盈的翅膀，我的自豪感油然而生，虽不如苍鹰那样呼呼生风，倒也能嗡嗡作响。都说蜜蜂是个舞蹈家，简直是屁话，他不就是能跳个八字步嘛，我的技术也不比他差在哪里呀，不过话说回来，我的衣服确实没有他的漂亮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家族很大，成员遍布天下，所以我的亲戚实在太多了，七大姑八大姨完全不能概括。我最不喜欢的要数我的表哥－－绿头蝇，我一看到他的绿头，我就头痛。因为他仗着自己身高马大，就和我抢女朋友。不过，现在我已经不讨厌他了，因为不久前，只配呆在厕所里的他居然想到饭桌上分一杯羹，被饭主以一块烂肉诱而毙之，看到他的“死”样，我心里的痛快劲就甭提了，呵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不知道那些叫做人类的庞然大物为何对我们恨之入骨，用尽各种方法欲置我们于死地，先是用什么全无敌之类的药物来对付我们，数以万计的兄弟姐妹为之丧生，幸好我们的适应能力特强，现在那些药已不怎么起作用了，呵呵。后来他们又用起了粘绳纸，记得有一次，我闻到一股香味，不怕你们笑话，真馋死我了。我循着那股香味飞过去，眼前的情景壮观之极，香味是从一张纸上传来的，纸上密密麻麻地沾满了我的弟兄，我已经无处安身了，我愤愤地向老妈告状，数落这些不是东西的弟兄，老妈一脸正色地告诫我，那是一个陷阱，我这才看清，纸上的哥们都早已“壮烈牺牲”了，当时的情形可以用尸横遍野来形容，悲壮之至。有了这次经验，我就戒掉了贪吃的毛病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鲸鱼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好！认识我吗？告诉你，我就是大名鼎鼎、闻名于全世界的鲸鱼。哎，我的小朋友们，千万千万不要以为我们鲸是鱼类，如果你真的这样认为，那你可就大错特错了，我们鲸属于哺乳动物。另外，我想向那些认为我是鱼类的小朋友们透露一个小秘密：应该好好补充补充生物方面的“营养”了！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鲸是很大很大的动物，单单是一条小小的舌头就有十几头大肥猪那么重呢！我们要是张开嘴巴，你们人类站在我们的嘴巴里，举起手来还摸不到我们的上颚呢；四个人围着一张桌子坐在我们的嘴里，还显得很宽敞呢！哼，看看我们是多么大呀！噢，对了，告诉你们呵，这话可别对我的老祖宗说，它要知道了，非批评我不可呢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为惊险的一次是那天下大雨，我们被雨淋得不行，一古脑地向屋里躲，没想到被一蜘蛛网粘住了，那只大蜘蛛一上来就把我身边的弟兄给消灭了，我好不容易挣扎出来，现在想起来，我的心还嘭嘭直跳，腿都软了。你说气人不气人，你蜘蛛不就是个搞网络的嘛，神气什么呀，我好歹也是个飞行员呀。不过生气归生气，今后我还得离他远些，毕竟我没有什么攻击能力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的攻击方法我就不多作介绍了，可以算得上层出不穷，花样百出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的攻击方法我就不多作介绍了，可以算得上层出不穷，花样百出了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过经过若干次的起死回生，我现在可聪明多了，在各种机关中能够游刃有余，那些雕虫小技对我来说简直小菜一碟，我对之不屑一顾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说起来我们对人类的贡献还是挺大的，不是有人用我们的头还作形容词吗，“蝇头小楷”就是一个例子呀。真搞不懂，人类为什么这么忘恩负义，心狠手辣，简直杀蝇不眨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家庭成员也不少，但是各有自己的生活习性。看，第一位登场的是我们的小弟弟——须鲸，他没有牙齿，所以他的食物是小鱼和小虾；第二位登场的是我的同胞兄弟，名字自然是我不说你们也知道，对了，叫齿鲸，有着无比锋利的牙齿，因此我们一般都是吃大鱼和海兽；那一位是我们的领袖——虎鲸，他可是很厉害的，要是把他惹急了，他可是不顾情面的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鲸是用肺呼吸的。呼气的时候就要浮上海面，呼出的气会形成一股水柱。但是不同种类的鲸喷出的水柱也不一样：小弟弟须鲸的水柱是垂直的，又细又高；我们齿鲸的水柱是倾斜的，又粗又矮。瞧瞧，我们鲸类的学问还不少吧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睡觉的样子也很好玩。为了安全起见，我们总是一群一群的睡，头朝里，尾巴向外，围成一圈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胎生的，而且是靠喝母鲸的奶长大的。我们的生长速度很快，一天就可以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。而且我们的寿命很长，可以活几十年——一百年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了我的自述，大家会对我们鲸有所了解了吧！如果你们以后到我们那里做客，我一定会热情款待你们的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球的自述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叫月球，是地球的卫星。古往今来，地球上的人们给我起了许多好听的名字，像玉盘、冰镜、蟾宫、玉兔、婵娟等。这说明人类对我有着深厚的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比地球小得多，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4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体积只有地球的四十九分之一，与地球之间的平均距离约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84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。 我本身并不发光，但是我会把阳光反射给地球，使地球上的长夜有一个天然的光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这儿没有空气，没有水，因而也没有风、云、雨、雪。在我这儿，声音不能传播，热量也无法对流。白天，在阳光直射的地方，中午温度高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氏度，夜间则降低到零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氏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这儿有山脉、高原、平原、低地和坑穴，最高的山峰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比珠穆朗玛峰还要高。我那明亮的部分，就是我的山脉和高原，而黑暗的部分则是平原和低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“阿波罗‘号宇宙飞船首次载人到我这儿做客。之后，人们发现这里有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矿产，其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在地球上至今还未发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人特别喜欢我。常常有人说”月到中秋分外明，那是因为秋高气爽，地球的大气层的透明度特别高，使我反射到地面上的阳光更强烈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是故乡明”，表达了中国游子对故土的思念。 我——人类宇宙航行的第一站，盼望着来自中国的客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的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一只小蜜蜂。我们蜜蜂是过群体生活的。在一个蜂群中有三种蜂：一只蜂王，少数雄蜂和几千到几万只工蜂。我就是这千万工蜂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母亲就是蜂王，它的身体最大，几乎丧失了飞行能力。这没有关系，它有千千万万个儿女，我们可以供养它，也算尽了孝道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的家族中，只有蜂王可以产卵，它一昼夜能为我们生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个兄弟。蜂王的寿命大约是三年到五年，在我们家族中它可以说是寿星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蜂群中还有一种蜂叫雄蜂，它和我们大不相同，它“人高马大”身体粗壮，翅也长。它的责任就是和蜂王交尾。交尾之后，它也就一命呜呼了。要说家族中数量最多，职责最大的还是我们工蜂。我们是蜂群的主要成员，工作也最繁重：采集花粉、花蜜，酿制我们的“口粮”、哺育我们的弟弟们、饲喂我们的母亲、修造我们的房子、保护家园、调节室内温度和湿度……别看这样，我们的身体是非常弱小的，我们的寿命也只有六个月，就像天空的流星一样——一闪即逝，仅有一点儿时间去闪耀自己的光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蜜蜂是自然界里最勤劳的了。开花时节，我们忙得忘记早晚，有时还趁着月色采花酿蜜。蜜是很难酿的，我们要酿一公斤蜜，必须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朵花上采集原料。如果我们的蜂巢同采蜜的花丛距离一公里半，那么我们采一公斤蜜就得飞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公里，差不多等于绕地球赤道飞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。看样子，我们的功业并不次于“阿波罗号”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然我们采蜜难，但每年一窝蜂都能割几十斤蜜。在广东的同族们一年四季都不闲着。如果动物世界也有组织的话，那么我们蜜蜂一定能获得“最热爱劳动奖章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05:50:38Z</dcterms:created>
  <dc:creator>Administrator</dc:creator>
  <dc:description/>
  <dc:language>en-US</dc:language>
  <cp:lastModifiedBy>微软用户</cp:lastModifiedBy>
  <dcterms:modified xsi:type="dcterms:W3CDTF">2014-04-11T06:33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