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123-8F07-436E-A058-51398C2D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D18-B3F5-4A9C-B3D1-B83F420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8AE-786F-477B-9643-A37BE1C0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EB7-BE7B-4439-A504-9610F5D6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1D0-7168-46E8-8C0C-71B1A181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866-38D7-4E43-B5C9-C8B08F4D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C42-C030-469D-9E78-602981F9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DAB-E827-4A22-8D96-60E47B4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0A2-E1AC-4925-838A-17298C5D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46A-33A5-4EB4-A149-07FD1440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14E-6656-455B-BC59-6A9AE027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DE0-2968-4E93-8DFA-DE7E85D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698-1EFF-459B-A60F-160AE8AD8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143320" y="133344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感恩节 快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2840" y="28954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感谢你，永远在我身边。给我支持与力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TanksgivingDay  Happ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90720" y="4724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曾经的陌生不代表永恒，不经意间，某种感觉的默契延续你我的友情，寂寞旅途中，我欣喜：有你同行！感恩节快乐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ayz</cp:lastModifiedBy>
  <dcterms:modified xsi:type="dcterms:W3CDTF">2010-11-18T07:59:58Z</dcterms:modified>
  <cp:revision>1</cp:revision>
  <dc:subject/>
  <dc:title>PowerPoint Presentation</dc:title>
</cp:coreProperties>
</file>